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AA6-FA01-4751-8A65-D51F9671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DBE-5B31-4292-8AB7-3435A31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517-51EB-4850-AF69-D715ACC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AB4-13C4-4D00-9723-71D27882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C9B-A76F-4E87-8229-88F4A04D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F7B-0DCB-407E-9170-176865CA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16B-8025-414E-BE15-6B3A195B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799-648E-40F2-B340-7CBA143A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1B0-D43D-48E5-B1AB-E57105D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91F-716F-427D-87E9-D0E1302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FAF-8FA6-4BD2-ADEC-F37ED81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AB2-CB36-4712-8E49-F48D0D5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46F-BB19-41C3-A175-0D8DD9DF8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ava 2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, Poly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es have 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e. they refer to instances of a particular Jav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s have 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e. they are instances of a particular Jav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also instances of their super-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heritance describes an isA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a MotorBike isA Motor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binding done by the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it can determine the type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 calls are bound to their implementatio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Binding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MotorBik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void revEngine() {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orBike bike = new MotorBik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otorbike.revEng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Binding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otorVehic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void start() {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void stop() {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otorBike extends MotorVehicl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overrid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void start() {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void revEngine() {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usage. Still statically b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orBike bike = new MotorBik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orbike.sta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ieved at run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lass of an object cannot be determined at compi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the JVM (not the compiler) must bind a method call to it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a sub-class can be treated as if they were an instance of the pa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compiler doesn’t know its type, just its bas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inding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reference is to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otorVehicle vehicle = new MotorBik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method is dynamically bound to MotorBike star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ehicle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remember all classes derive from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 object = new MotorBik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bject.to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inding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interface ElectricalApplianc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void turn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void turnOff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RemoteContro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turnApplianceOn(ElectricalAppliance appli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ppliance.turn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ectricalAppliance appliance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moteControl.turnApplianceOn(applian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inding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airDryer implements ElectricalApplianc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Light implements ElectricalAppli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lectricalAppliance appliance = new HairDry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moteControl.turnApplianceOn(appli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ppliance = new Ligh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moteControl.turnApplianceOn(applianc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 and Behavio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pe of the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termines its possible behavi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we define them in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 reference limits the behaviours we can invoke to those defin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type of the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inding 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class HairDryer implements ElectricalApplia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void adjustTemperatu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ectricalAppliance appliance = new HairDry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following won’t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ppliance.adjustTemperatu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Binding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a reference refers to an interface or a base class, methods are dynamically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implementation determined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==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powerful OO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the creation of “framewor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that are implemented around interfaces, but are customised by plugging in different implementations of those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tat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an Objects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s possible to check the actual type of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want to check the real type, if we’ve only got a reference to an interface or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st be applied to an object, tests whether it has a given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tanceof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class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otorBike implements Vehicle, Motori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code fra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ehicle bike = new MotorBik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bike instanceof MotorBik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do some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bike instanceof Motorise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do some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we know the type, we can then “cast”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ehicle bike = new MotorBik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bike instanceof MotorBik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toBike bike = (MotorBike)bik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object isn’t of that type, then an exception will be th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od idea to always check before casting, unless you’re absolutely s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Stat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s define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methods and their 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include static final constants (and com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imilar to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interface can extend another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f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end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end a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void turnLef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void turnRigh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ke abstract methods, the signature is terminated with a semi-co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otorBike implements Vehic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include methods from Vehicl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must implement all methods of th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clare itself to b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es can implement any number of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otorBike implements Vehicle, Motor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le to combine extends and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otorBike extends WheeledVehicle implements Vehicle, Motor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eanly separates implementation of behaviour from description of the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 the implementation is easily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ehicle vehicle = new MotorBik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might becom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ehicle vehicle = new MotorC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ny OO systems are defined almost entirely of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cribes how the system w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ctual implementation is introduc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is what happens when a method invocation is bound to a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lookup of the method in the class, or one or it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ethod names and parameters are che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can happen at two different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 time == static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ime == dynamic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fs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5530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6:04:31Z</dcterms:created>
  <dc:creator>Leigh Dodds</dc:creator>
  <dc:description/>
  <dc:language>en-US</dc:language>
  <cp:lastModifiedBy>Leigh Dodds</cp:lastModifiedBy>
  <dcterms:modified xsi:type="dcterms:W3CDTF">2003-03-13T17:38:47Z</dcterms:modified>
  <cp:revision>293</cp:revision>
  <dc:subject/>
  <dc:title>Introduction to Java 2 Programming</dc:title>
</cp:coreProperties>
</file>